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5C517-BA37-424B-A8B3-32202DEFF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E8EBD-4E97-42E6-934B-68D19C918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D200A-4D75-40B2-90E9-A55000382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EEB5E-E509-4479-B9F8-29076F90E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35EC3-1E68-4658-B516-FE82E674C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D15B8-5286-49CE-8EF3-004951905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D853A-8D92-4633-B98F-718AF2B5E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A7D81-6E1E-4F77-B5EA-FD1521D03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2037B-A80F-46CE-B17D-A9C2A9E9D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03C89-3922-44D3-8848-140270BC7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175E8-9C30-4A73-95F1-E6337660E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F50D2-6940-4FDA-B821-25632D071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468F-0248-48B2-A4A3-84CCA95A53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Warm ups!</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eb Hendri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1295280"/>
            <a:ext cx="4191120" cy="5562720"/>
          </a:xfrm>
          <a:prstGeom prst="rect">
            <a:avLst/>
          </a:prstGeom>
          <a:ln w="0">
            <a:noFill/>
          </a:ln>
        </p:spPr>
      </p:pic>
      <p:pic>
        <p:nvPicPr>
          <p:cNvPr id="63" name="" descr=""/>
          <p:cNvPicPr/>
          <p:nvPr/>
        </p:nvPicPr>
        <p:blipFill>
          <a:blip r:embed="rId2"/>
          <a:stretch/>
        </p:blipFill>
        <p:spPr>
          <a:xfrm>
            <a:off x="4191120" y="1295280"/>
            <a:ext cx="5043240" cy="556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clus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y hypothesis was correct. Everyone except one person improved there percentage. As I view the shooters, they got more focused and shot in a rhythm and got on streaks. So the music obviously helps your performance, which means it does have a meaning at ga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rks Cit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eifer, Todd. "The best basketball warm up songs - by Todd Pheifer - Helium." </a:t>
            </a:r>
            <a:r>
              <a:rPr b="0" i="1" lang="en-US" sz="2000" spc="-1" strike="noStrike">
                <a:solidFill>
                  <a:srgbClr val="ffff00"/>
                </a:solidFill>
                <a:latin typeface="Arial"/>
              </a:rPr>
              <a:t>Helium - Where Knowledge Rules</a:t>
            </a:r>
            <a:r>
              <a:rPr b="0" lang="en-US" sz="2000" spc="-1" strike="noStrike">
                <a:solidFill>
                  <a:srgbClr val="ffff00"/>
                </a:solidFill>
                <a:latin typeface="Arial"/>
              </a:rPr>
              <a:t>. N.p., n.d. Web. 17 Nov. 2010. &lt;http://www.helium.com/items/920298-the-best-basketball-warm-up-songs&gt;.</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illips, Aron. "My Top Five Hoop Warm-Up Tracks | Dime Magazine (dimemag.com) : Daily NBA News, NBA Trades, NBA Rumors, Basketball Videos, Sneakers." </a:t>
            </a:r>
            <a:r>
              <a:rPr b="0" i="1" lang="en-US" sz="2000" spc="-1" strike="noStrike">
                <a:solidFill>
                  <a:srgbClr val="ffff00"/>
                </a:solidFill>
                <a:latin typeface="Arial"/>
              </a:rPr>
              <a:t>Dime Magazine (dimemag.com) : Daily NBA News, NBA Trades, NBA Rumors, Basketball Videos, Sneakers</a:t>
            </a:r>
            <a:r>
              <a:rPr b="0" lang="en-US" sz="2000" spc="-1" strike="noStrike">
                <a:solidFill>
                  <a:srgbClr val="ffff00"/>
                </a:solidFill>
                <a:latin typeface="Arial"/>
              </a:rPr>
              <a:t>. N.p., n.d. Web. 17 Nov. 2010. &lt;http://dimemag.com/2008/10/my-top-five-hoop-warm-up-tracks/&gt;. </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gha, Rajib. "Warm Up Songs." </a:t>
            </a:r>
            <a:r>
              <a:rPr b="0" i="1" lang="en-US" sz="2000" spc="-1" strike="noStrike">
                <a:solidFill>
                  <a:srgbClr val="ffff00"/>
                </a:solidFill>
                <a:latin typeface="Arial"/>
              </a:rPr>
              <a:t>Buzzle Web Portal: Intelligent Life on the Web</a:t>
            </a:r>
            <a:r>
              <a:rPr b="0" lang="en-US" sz="2000" spc="-1" strike="noStrike">
                <a:solidFill>
                  <a:srgbClr val="ffff00"/>
                </a:solidFill>
                <a:latin typeface="Arial"/>
              </a:rPr>
              <a:t>. N.p., n.d. Web. 17 Nov. 2010. &lt;http://www.buzzle.com/articles/warm-up-songs.html&g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ve you ever gone to a basketball game and heard music playing? Some people don’t understand why they play it. Is it supposed to pump you up and get focused, or is it just for entertainment and show? What I am trying to find out is weather or not warm up music really helps your performanc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ckground Inf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ms all across the world play music during pre game warm up. College teams don’t tend to play it as much as the NBA. Playing music before a game didn’t use to be as popular, but Michael Jordan helped get it started for his Chicago Bulls. The music soon became a normal thing to find at a basketball g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terial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8.5 basketba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sult char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peake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uter</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0ft g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ypothesi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believe that the music will help improve the shooters percentage. I think the music will help the shooters get in a rhythm and make it easier to knock down sho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cedur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ve the participants shoot 5 shots from the baseline, wing, free throw line, and the same on the other side.</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ord the scores, then do the same shots again but this time with the music of the shooters choice.</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ulate the final percentages and find the 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sults-Boys</a:t>
            </a:r>
            <a:endParaRPr b="0" lang="en-US" sz="4400" spc="-1" strike="noStrike">
              <a:solidFill>
                <a:srgbClr val="000000"/>
              </a:solidFill>
              <a:latin typeface="Arial"/>
            </a:endParaRPr>
          </a:p>
        </p:txBody>
      </p:sp>
      <p:graphicFrame>
        <p:nvGraphicFramePr>
          <p:cNvPr id="54" name=""/>
          <p:cNvGraphicFramePr/>
          <p:nvPr/>
        </p:nvGraphicFramePr>
        <p:xfrm>
          <a:off x="380880" y="1447920"/>
          <a:ext cx="8229600" cy="5200560"/>
        </p:xfrm>
        <a:graphic>
          <a:graphicData uri="http://schemas.openxmlformats.org/drawingml/2006/table">
            <a:tbl>
              <a:tblPr/>
              <a:tblGrid>
                <a:gridCol w="2057400"/>
                <a:gridCol w="2210040"/>
                <a:gridCol w="1904760"/>
                <a:gridCol w="2057400"/>
              </a:tblGrid>
              <a:tr h="975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hoote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g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ithout Mus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ith Musi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dre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Igni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0/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3/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5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le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Do the John Wal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7/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2/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8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mer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Monst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2/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6/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ord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Devastat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2/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sults-Girls</a:t>
            </a:r>
            <a:endParaRPr b="0" lang="en-US" sz="4400" spc="-1" strike="noStrike">
              <a:solidFill>
                <a:srgbClr val="000000"/>
              </a:solidFill>
              <a:latin typeface="Arial"/>
            </a:endParaRPr>
          </a:p>
        </p:txBody>
      </p:sp>
      <p:graphicFrame>
        <p:nvGraphicFramePr>
          <p:cNvPr id="56" name=""/>
          <p:cNvGraphicFramePr/>
          <p:nvPr/>
        </p:nvGraphicFramePr>
        <p:xfrm>
          <a:off x="457200" y="1295280"/>
          <a:ext cx="8229600" cy="5353200"/>
        </p:xfrm>
        <a:graphic>
          <a:graphicData uri="http://schemas.openxmlformats.org/drawingml/2006/table">
            <a:tbl>
              <a:tblPr/>
              <a:tblGrid>
                <a:gridCol w="2057400"/>
                <a:gridCol w="2057400"/>
                <a:gridCol w="2057400"/>
                <a:gridCol w="2057400"/>
              </a:tblGrid>
              <a:tr h="1010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hoote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g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ithout Mus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ith Musi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d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Dynamit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0/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2/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8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3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lse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Love Like Wo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5/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yli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Just a Dre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1/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9/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asad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Love Like Wo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2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1219320"/>
            <a:ext cx="9144000" cy="56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4:28:04Z</dcterms:created>
  <dc:creator>USD376</dc:creator>
  <dc:description/>
  <dc:language>en-US</dc:language>
  <cp:lastModifiedBy>USD376</cp:lastModifiedBy>
  <dcterms:modified xsi:type="dcterms:W3CDTF">2010-11-17T15:21:48Z</dcterms:modified>
  <cp:revision>7</cp:revision>
  <dc:subject/>
  <dc:title>Warm ups!</dc:title>
</cp:coreProperties>
</file>